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EC7-6182-4FE5-B532-D43A4255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6F4-4417-4C27-A98E-40804E07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2C7-D756-41BF-9AAA-1C04DC16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437-6276-4ACA-9F91-F391E871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093A1-4F45-42E2-AFAE-B86CE752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34A4E-4ED4-46E9-A7A5-5D7EFFAD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D57FE-5A84-47BD-95AC-1000F3C0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DAEDC-2C69-4971-BAED-543ECE7E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D58CE-DCAA-437A-AD40-3EA05E07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A4047-07CA-4761-AC03-794C72BA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0DAF9-5B1A-4E87-9CBC-BCDB77C3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E7A-D815-432C-8909-92E31A0D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92B2D-F2E6-46E5-BF7E-63BFACD9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A0931-937A-4751-AC57-DDD4EE30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F45EF-63EB-4542-8A74-CC6F619A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5E1AA-4CE4-4835-85FE-D128040C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184BA-B684-4719-9E96-DC701B2B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1E4-4FF2-405E-85B5-10BE93C3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703-DDA3-428C-952B-F9A857DC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B4B-197C-493F-A2EA-F6A505CD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4E6-714E-4988-AACD-461C62D6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492-5E8B-4831-9823-84454D06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DFB-F24D-4C36-B026-552DF21C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45C-C1DF-491C-9689-14C5A5CB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FB4A-22E8-4CDC-9E86-0E3298889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DEFE-2808-449A-9BB8-14BFC0216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ar Be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Crystal Wol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362320" cy="2444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859200">
            <a:off x="228600" y="4495680"/>
            <a:ext cx="1839960" cy="1703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2971800" cy="26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181480" y="464832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91960"/>
            <a:ext cx="84582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you know any thing about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ar bears?....I will help you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666880" y="243828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rst I will tell you about thei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z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e polar bears may grow 10 feet tall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igh 1400 pounds. Females reach se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t tall and weigh 650 poun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33920" y="3736800"/>
            <a:ext cx="24620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 will tell you about a polar bear’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fe spa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fe span is 20 – 25 years. Any age ov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is luck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743200" y="31240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will tell you what they ea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eat bearded seals, walrus, beluga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le. They eat birds, vegetation and kel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666880" y="3048120"/>
            <a:ext cx="402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will tell you where they liv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live in the Arctic. They live in oth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ces to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2425680" cy="3657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352680" y="2514600"/>
            <a:ext cx="3124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hope you’ve had a fun time reading !!By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619440" y="2585880"/>
            <a:ext cx="24004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16:18Z</dcterms:modified>
  <cp:revision>4</cp:revision>
  <dc:subject/>
  <dc:title>Animal Name</dc:title>
</cp:coreProperties>
</file>